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459-51C7-4DE4-815A-E1FCD3E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000-55E8-4DD9-BB26-BB84BE63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E29-0CF7-4F60-B916-8DD5B379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0E5-0DCD-4EB7-9D86-EF60EC19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CCF-0CA7-406A-859B-E26AEAE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4F7-53E8-4B61-8EC2-BEE8079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4C6-DD7F-4833-B148-C6E5DD5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FE3-4FCE-45B6-95F0-08EB77FF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854-4637-4D8E-AC75-8C641924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925-909E-402F-87AF-3667FF8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135-21E1-4435-8957-ADD02A58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8C5-1EB8-40EB-964B-CF72155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7A7-11EF-4649-B9CE-5BA3938337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920" y="228600"/>
            <a:ext cx="8244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n’t we take a little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Didn’t we just have _______?   (NMET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at            C. one            D.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was last night that I saw a new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B. This            C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D.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I hope there are enough glasses for each gu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          B. those          C.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.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had made _______ possible for us to catch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the developed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it           C. us           D. ou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I was disappointed with the film, I ha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to be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is            C. one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604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9320" y="1438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6740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49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792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240" y="371520"/>
            <a:ext cx="881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' s mother kept telling him that he should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er, but_______ didn' 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    B. which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Do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er if he can't finish the job on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is          B. that           C. he    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Meeting my uncle after all these years w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forgettable moment_______ I will always tr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 B. one            C. i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Is_________ a boy or girl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she           B. he            C. on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---Look, who is com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---__________ must be our English teache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A. She       B. He         C. It             D.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18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44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96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284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28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447840"/>
            <a:ext cx="9134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one is knocking at the door, but who can____ b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one         B. he           C. she  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______ was late summer and the weather was very h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It             C. This            D. It's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 _________ a heavy rain last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here had              B. We had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t was                      D. There 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_ is 200 kilometres from here to the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k. We have to go there by ca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here          B. It            C. This           D. Th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f you can dream ________, you can d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e, it           B. it, one         C. one, one       D. it,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5872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528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16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5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202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3400" y="152280"/>
            <a:ext cx="812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y 3,2002,archaeologists found a grave of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dated back to around 2300 B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o his head was two pots,a bow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unting and a small copper kn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n was buried with two gold earrings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oldest gold being ever found in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gest stones weigh for 20 tons and c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place not very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may have had a hand in helping transpor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ing up the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90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360" y="60012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39760" y="189540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276720"/>
            <a:ext cx="7621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57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327672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962520"/>
            <a:ext cx="4572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5680" y="44956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572000"/>
            <a:ext cx="7617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172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5705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4840" y="371520"/>
            <a:ext cx="8468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ronze Age,they made copper and bronz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ron came later,in which was called the Iron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will serve for important material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y of local geograph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 and officials came to his home,but n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m could say when the objects were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four o’clock in the afternoon that he and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pa reached the museum in Guangh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ologists will continue their work,dig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xingdui Ruins from 2003 until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1295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4120" y="1209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133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33960" y="1981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29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33526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648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4160" y="464832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59436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7440" y="60199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770840" y="981000"/>
            <a:ext cx="303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追溯到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给某人一个…的想法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件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，插手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竖起，使（车、马）停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…的话，以…的观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名望，威望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充当，担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想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属于…，是…的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挖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8480" y="9810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ate back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30640" y="14479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an idea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920" y="18288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piece of cl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800" y="22096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en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5320" y="25812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link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3920" y="3062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a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360" y="34956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ll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68160" y="387684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term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0040" y="4334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high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2840" y="4714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rve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8680" y="518148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remind sb.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2680" y="56293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lon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6880" y="608652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di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20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228960" y="1066680"/>
            <a:ext cx="947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he castle ________to th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tes from                 B. dates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tes at                       D. date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rst textbooks _________for teaching Englis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foreign language came out in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written              B. to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written                D.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Are you sure the trees can ________the coming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vive    B. pass      C. overcome      D.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284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0112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9184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480" y="219240"/>
            <a:ext cx="856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can’t remember _________it was five o’clock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rri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; when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ther ; that             D. that 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By sunset, we had __________thirty m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ed at              B. covered fo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                  D. cove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is is one of the problems__________at th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scussed                         B. discuss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discussed                D. to be discu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Never_______faith in himself, the scientist w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is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B. to lose       C. lost          D. to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25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011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4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680" y="1429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amination, all the students are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on’t fail                  B. Not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failing                D. Not to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---__________is it that I should take the medicin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wice a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much                 B. How soo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ow often                  D. How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I really _______that I will meet you again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o do I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sh        B. hope           C. suggest         D. pre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o do you think did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 suspect Tom__________i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a hand in            B. had ha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a hand at            D. had hand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704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02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6880" y="3495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62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840" y="219240"/>
            <a:ext cx="8855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ur great joy, the medicine ________satisfa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roved     B. is proved    C. proved       D. p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_________customer satisfaction, the policy ca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terms of                 B. In the term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n the terms of           D. In term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________at the bottom of the hill there are m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rown                     B.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grown           D. To be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_______is said _______ Mr. Brown left for Ital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; why                  B. It; that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; that            D. What ;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920" y="98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5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8960" y="4410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20" y="219240"/>
            <a:ext cx="9181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n’t it about the time you_______to discuss 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, it is. Would you like to join 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e begun    B. begin  C. began      D. had be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Do you think the young man Miss Smith is spe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___________, Mar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tty      B. beautiful      C. handsome      D.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question is ________they can finish the work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ther         B. which         C. that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Mary stood on board, _______her face burnt in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ave         B. leaving           C. to leave          D.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Is this restaurant _______you said we were to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t which    B. which         C. in that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41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16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360" y="3952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20240" y="495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53360" y="27288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五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代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640" y="914400"/>
            <a:ext cx="8689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_______ necessary to master a foreign langu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se      B. those         C. that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Johns have a new baby. ________ is lo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e          B. It               C. She          D.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-He was nearly drowned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When was _________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_______ was in 1998 when he was in middl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. this, This   C. this,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. that,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hate ______ when people talk with their mouth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B. 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these          D.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We foun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difficult to learn Japane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02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0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672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144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5840" y="509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52Z</dcterms:modified>
  <cp:revision>11</cp:revision>
  <dc:subject/>
  <dc:title>PowerPoint Presentation</dc:title>
</cp:coreProperties>
</file>